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1BE-FD5D-4951-93BC-B1A66CC8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2E5-F910-489F-9736-C013A82D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74F-C752-4586-B06E-37745228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40C-4EA3-4D09-89CB-003F9F6D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46B-903E-4014-B562-85949B0B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D06-F127-4B21-9DA5-449D5BF4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0A5-ECAC-418C-9896-64284DE3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C7F-0B13-46C4-9654-B4519DA9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06D-78C1-4067-A53E-66C8777F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9BB-4A6B-44DD-9A9F-08C65117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80D-12F7-4DB1-8FD7-E4BADCD1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EF6-A3D9-4EF7-B599-E40631EE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3853-07AC-46CB-A5ED-37395CF10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3733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8458200" y="3733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7"/>
          <p:cNvSpPr/>
          <p:nvPr/>
        </p:nvSpPr>
        <p:spPr>
          <a:xfrm flipV="1">
            <a:off x="227880" y="1523880"/>
            <a:ext cx="3240" cy="2438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-3240" y="137160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48: 4 million  Ge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3"/>
          <p:cNvSpPr/>
          <p:nvPr/>
        </p:nvSpPr>
        <p:spPr>
          <a:xfrm flipV="1">
            <a:off x="3962520" y="1600200"/>
            <a:ext cx="2880" cy="23623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3195360" y="2057400"/>
            <a:ext cx="17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92: Ellis island o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V="1">
            <a:off x="3428280" y="2285640"/>
            <a:ext cx="3240" cy="16765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3800880" y="137160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00: population reaches 76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2"/>
          <p:cNvSpPr/>
          <p:nvPr/>
        </p:nvSpPr>
        <p:spPr>
          <a:xfrm flipV="1">
            <a:off x="685080" y="2057400"/>
            <a:ext cx="3240" cy="19051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451440" y="1828800"/>
            <a:ext cx="257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62: congress passes the first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6"/>
          <p:cNvSpPr/>
          <p:nvPr/>
        </p:nvSpPr>
        <p:spPr>
          <a:xfrm flipV="1">
            <a:off x="4342680" y="2819160"/>
            <a:ext cx="3240" cy="11430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4187520" y="259092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05: 1 million  P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0"/>
          <p:cNvSpPr/>
          <p:nvPr/>
        </p:nvSpPr>
        <p:spPr>
          <a:xfrm flipV="1">
            <a:off x="6934320" y="2666520"/>
            <a:ext cx="2880" cy="1295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6699240" y="2438280"/>
            <a:ext cx="173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60: 700,000 Cub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3"/>
          <p:cNvSpPr/>
          <p:nvPr/>
        </p:nvSpPr>
        <p:spPr>
          <a:xfrm flipV="1">
            <a:off x="5485680" y="3352680"/>
            <a:ext cx="3240" cy="6098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5245200" y="3200400"/>
            <a:ext cx="348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07: us and Japan sign gentlemen'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6"/>
          <p:cNvSpPr/>
          <p:nvPr/>
        </p:nvSpPr>
        <p:spPr>
          <a:xfrm flipV="1">
            <a:off x="2819520" y="685800"/>
            <a:ext cx="2880" cy="32767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7"/>
          <p:cNvSpPr/>
          <p:nvPr/>
        </p:nvSpPr>
        <p:spPr>
          <a:xfrm>
            <a:off x="2561760" y="457200"/>
            <a:ext cx="65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87:alian contract labor laws of 1885,87,88, and 91 prohibits immigrants from entering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42:23Z</dcterms:created>
  <dc:creator>tech2</dc:creator>
  <dc:description/>
  <dc:language>en-US</dc:language>
  <cp:lastModifiedBy>tech2</cp:lastModifiedBy>
  <dcterms:modified xsi:type="dcterms:W3CDTF">2009-03-11T16:50:22Z</dcterms:modified>
  <cp:revision>2</cp:revision>
  <dc:subject/>
  <dc:title>Slide 1</dc:title>
</cp:coreProperties>
</file>